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6B69-9F8D-47AE-A230-8401B364C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E15D-C329-493F-B0B5-F32045593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0F1D-51ED-4882-8F72-1B489A9BF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s the results of several studies that address a set of related research 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s true “effect siz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eakn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if the results are more varied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follows the rules of hard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for generalization to the population of stu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ly statistical examination of scientific studies, not an actual scientific study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for between-study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bias are not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higher statistical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vy reliance on published studies, which may create exaggerated outc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mpson’s Parado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wo smaller studies may point in one direction, and the combination study in the opposite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stimate the true “effect size” as opposed to a smaller “effect size” derived in a single study under a single set of assumptions and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06C3-0BB5-41A0-9185-7C695742E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:20-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4D27-EAD6-4D7F-AFA4-EA36A3261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be our baseline- it could also possibly used as a pre-test.  In a real experiment, you would do this repetitively at the sam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oups in real-life should be randomly assigned as much as 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real world, you may want to do your experiment several times depending on your research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A1DF-CA7C-4773-9443-2B2E2CB31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ime constraints we are collecting ordinal data (greater than, less than, or stays the same); otherwise, we would be collecting quantitative data using a ratio scale (absolute 0- no heart beat and in equal incre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 is affected by monitor sensitivity, and reliability may be affected by the individuals ability to take the measurement using the moni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804E-6FD3-4DFA-88B0-802505118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al group - did squat ju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group - remained s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 - activity/exercise (seated vs. squat jump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variable - measured/observed heart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ounding variable - heart size, individual endurance, recovery rate ability, intensity of exercise/effort (squat jump/sit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45D-467E-496C-A172-63C562228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andomly assign participants to two groups: experimental group and contro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9BB9-CAE0-41E6-BDE8-4EAC304D4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loss diet p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54DD-47A0-4AB6-8BE0-BA4DD49D0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strate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B492-A2AE-40FD-A305-70B6DA1A1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- quality/characteristic in a research investigation that may have more than 2 possi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exercise: running, lifting weights, swi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2BD9-84D0-47CE-8F5E-4AF355980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loss diet p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For cofounding variable, add food items to the pictures i.e. McDonald’s for the no pill group and salad for the placebo group; cofounding variables make it hard to draw conclusions about cause and effect because we cannot isolate the cause of any patterns we obs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BF79-6E63-471B-AEE4-7EB19FA5A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strate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founding variable (i.e. add Lexile scores and IQ patterns to each group to each group); cofounding variables make it hard to draw conclusions about cause and effect because we cannot isolate the cause of any patterns we obs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3B99-44FD-4F06-A071-7D3F2F14A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eep some thing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actor remains the same for all test participants, it can easily be excluded as a reason for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clude a contro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ives no intervention and is used to compare performance against the experiment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andomly assign people to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ake into account variables that cannot be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 equivalence before the treatment with pret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when random assignment of groups is not possible. Could also u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tched pai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hich is finding pairs of subjects, one form each of the two groups, to comp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pose participants to all experimental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study participants are subject to all experimental and control treatments of the experiment. Treatments are assessed independe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tistically control for confounding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ling for known variables through statistical techniq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05C3-6089-46A1-8586-918329C61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5EF-BB74-4284-B02B-E30DB668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C9E-E7B9-4E9C-AE4D-FD1A6908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EBD-6C41-4278-8A86-905A8245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5F2-E40A-43E7-A698-2D1700B7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83F-4B42-4CD6-8F47-4D8A4B95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D5C-2C6B-4BE9-BD53-64DBEED8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C27-04FB-40FB-8D57-CFAB1A82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B8A-594C-4B24-B3E6-E2E84278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AA8-02BA-413A-991E-707AD20E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83B-4653-4EBF-9CD9-5F51B483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A42-5A7C-4263-9FA6-793809CD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B67-B86D-46A1-ABD3-1BA65282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84D8-F80B-4944-8629-5A571694C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00600" y="2286000"/>
            <a:ext cx="4191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ith Carringt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erie Nash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ith Nerby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thleen Olewinsk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nya Wojciechowicz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144360" y="-784080"/>
            <a:ext cx="2200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144360" y="-784080"/>
            <a:ext cx="2200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14436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144360" y="-1461960"/>
            <a:ext cx="2286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44360" y="-1461960"/>
            <a:ext cx="2286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http://archive.computerhistory.org/resources/still-image/Claude_Shannon/claude_shannon.mouse_in_maze.102630790.lg.jpg"/>
          <p:cNvPicPr/>
          <p:nvPr/>
        </p:nvPicPr>
        <p:blipFill>
          <a:blip r:embed="rId1"/>
          <a:stretch/>
        </p:blipFill>
        <p:spPr>
          <a:xfrm>
            <a:off x="228600" y="1676520"/>
            <a:ext cx="4505400" cy="4762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5731560" y="63244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 740, Nov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table 10.1 #1.jpg"/>
          <p:cNvPicPr/>
          <p:nvPr/>
        </p:nvPicPr>
        <p:blipFill>
          <a:blip r:embed="rId1"/>
          <a:stretch/>
        </p:blipFill>
        <p:spPr>
          <a:xfrm>
            <a:off x="762120" y="-2743200"/>
            <a:ext cx="7446960" cy="10240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762120" y="-228600"/>
            <a:ext cx="7467480" cy="91440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Table 10.1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p. 243-24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7632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table 10.1 #2.jpg"/>
          <p:cNvPicPr/>
          <p:nvPr/>
        </p:nvPicPr>
        <p:blipFill>
          <a:blip r:embed="rId1"/>
          <a:stretch/>
        </p:blipFill>
        <p:spPr>
          <a:xfrm>
            <a:off x="1828800" y="-868320"/>
            <a:ext cx="5867280" cy="80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table 10.1 #3.jpg"/>
          <p:cNvPicPr/>
          <p:nvPr/>
        </p:nvPicPr>
        <p:blipFill>
          <a:blip r:embed="rId1"/>
          <a:stretch/>
        </p:blipFill>
        <p:spPr>
          <a:xfrm>
            <a:off x="0" y="1447920"/>
            <a:ext cx="9607680" cy="132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tle 1"/>
          <p:cNvSpPr/>
          <p:nvPr/>
        </p:nvSpPr>
        <p:spPr>
          <a:xfrm>
            <a:off x="457200" y="-7632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Experiment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re-Experimental Design: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forming a tentative hypothesis that should be followed up with more controlled studies” (p. 229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rue Experimental Desig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ministering different treatments to a single group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Quasi-Experimental Design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iders the variables that researchers are unable to control and cannot rule out as alternative explanation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t0.gstatic.com/images?q=tbn:ANd9GcT3g1-TMzG5_J8Zp3sZR8-R61LGOp7FXC5QwsnWaaVPxNEGrBs&amp;t=1&amp;usg=__EBh4-N5qZ-HIR7HF-ZFuTdPDYP0="/>
          <p:cNvPicPr/>
          <p:nvPr/>
        </p:nvPicPr>
        <p:blipFill>
          <a:blip r:embed="rId1"/>
          <a:stretch/>
        </p:blipFill>
        <p:spPr>
          <a:xfrm>
            <a:off x="5410080" y="3048120"/>
            <a:ext cx="2895840" cy="2068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ttp://www.accountingweb.com/files/siftmedia-accountingwebus/images/hypodermic-needle01.jpg"/>
          <p:cNvPicPr/>
          <p:nvPr/>
        </p:nvPicPr>
        <p:blipFill>
          <a:blip r:embed="rId2"/>
          <a:stretch/>
        </p:blipFill>
        <p:spPr>
          <a:xfrm>
            <a:off x="533520" y="3048120"/>
            <a:ext cx="2778120" cy="209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axisoflogic.com/artman/uploads/1/Garifuna_Community_Hospital_doctor_patient.JPG"/>
          <p:cNvPicPr/>
          <p:nvPr/>
        </p:nvPicPr>
        <p:blipFill>
          <a:blip r:embed="rId3"/>
          <a:stretch/>
        </p:blipFill>
        <p:spPr>
          <a:xfrm>
            <a:off x="3276720" y="3048120"/>
            <a:ext cx="2139840" cy="2087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15228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-Post-Facto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e fac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4419720" y="1523880"/>
            <a:ext cx="47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termine if causality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researcher “studies the possible effect of an environmental factor that has occurred prior to the study itself” (p. 2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7632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http://t0.gstatic.com/images?q=tbn:ANd9GcSpCQFclAw5zDW1g2k0Ef0H9kE6sgRuy3HWPKJPhYov1bqVGEs&amp;t=1&amp;usg=__YQg57NISQUdV_wouVz0KNojY3LU="/>
          <p:cNvPicPr/>
          <p:nvPr/>
        </p:nvPicPr>
        <p:blipFill>
          <a:blip r:embed="rId1"/>
          <a:stretch/>
        </p:blipFill>
        <p:spPr>
          <a:xfrm>
            <a:off x="228600" y="1295280"/>
            <a:ext cx="36464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-Analy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http://www.sectorfej.net/wp-content/uploads/2010/06/paper-mess-300x299.jpg"/>
          <p:cNvPicPr/>
          <p:nvPr/>
        </p:nvPicPr>
        <p:blipFill>
          <a:blip r:embed="rId1"/>
          <a:stretch/>
        </p:blipFill>
        <p:spPr>
          <a:xfrm>
            <a:off x="2057400" y="9907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0" y="5943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bines the results of several 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14300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ics and Integ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onsible Con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ed Con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.g., Harmon, 201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www.nytimes.com/2010/04/25/weekinreview/25harmon.html?_r=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man Subjects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earch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earch Ab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RB Approval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blication/Peer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llaborative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UK-PRI Hit Squad"/>
          <p:cNvPicPr/>
          <p:nvPr/>
        </p:nvPicPr>
        <p:blipFill>
          <a:blip r:embed="rId1"/>
          <a:stretch/>
        </p:blipFill>
        <p:spPr>
          <a:xfrm>
            <a:off x="5410080" y="2590920"/>
            <a:ext cx="3330720" cy="3840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0" y="6477120"/>
            <a:ext cx="952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 Stritch University. (201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review board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stritch.edu/irb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C:\Users\Kathy\Pictures\DNA Research Consent.jpg"/>
          <p:cNvPicPr/>
          <p:nvPr/>
        </p:nvPicPr>
        <p:blipFill>
          <a:blip r:embed="rId2"/>
          <a:stretch/>
        </p:blipFill>
        <p:spPr>
          <a:xfrm>
            <a:off x="6324480" y="971640"/>
            <a:ext cx="251460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Collabo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328760"/>
          <a:ext cx="7924680" cy="530064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ened experimental 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erences in approa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disciplinary; new knowledge form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ility and account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 of new research str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ical iss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tise, methodology and re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li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ts and other funding opportun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losing potential conflicts of inte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Monitor Experi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123heartdiseasecenter.com/images/heart-beat.gif"/>
          <p:cNvPicPr/>
          <p:nvPr/>
        </p:nvPicPr>
        <p:blipFill>
          <a:blip r:embed="rId1"/>
          <a:stretch/>
        </p:blipFill>
        <p:spPr>
          <a:xfrm>
            <a:off x="4929120" y="5105520"/>
            <a:ext cx="4214880" cy="1523880"/>
          </a:xfrm>
          <a:prstGeom prst="rect">
            <a:avLst/>
          </a:prstGeom>
          <a:ln w="0">
            <a:noFill/>
          </a:ln>
        </p:spPr>
      </p:pic>
      <p:sp>
        <p:nvSpPr>
          <p:cNvPr id="126" name="Content Placeholder 2"/>
          <p:cNvSpPr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Ques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squat jumps change instantaneous heart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and record your resting heart rate using the moni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in the </a:t>
            </a:r>
            <a:r>
              <a:rPr b="0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LUE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ease remain seated without moving as much as possible.  If you are in the </a:t>
            </a:r>
            <a:r>
              <a:rPr b="0" lang="en-US" sz="28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ORANGE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ease do as many squat jumps as fast as possible in the time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and record your he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using the moni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f7964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Monitor Da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458200" cy="4800600"/>
        </p:xfrm>
        <a:graphic>
          <a:graphicData uri="http://schemas.openxmlformats.org/drawingml/2006/table">
            <a:tbl>
              <a:tblPr/>
              <a:tblGrid>
                <a:gridCol w="2451240"/>
                <a:gridCol w="1892160"/>
                <a:gridCol w="2000160"/>
                <a:gridCol w="211464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Increa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Decrea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Stayed the S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Blu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79646"/>
                          </a:solidFill>
                          <a:latin typeface="Times New Roman"/>
                          <a:ea typeface="Times New Roman"/>
                        </a:rPr>
                        <a:t>Orang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79646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7720" y="4266720"/>
            <a:ext cx="762012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est cause-and-effect relationships between variab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4.bp.blogspot.com/_JLW41DVVv0A/ScungPrGT2I/AAAAAAAAAMg/X3eSNTkJoHE/S220/monkey_scratching_head-106x116.jpg"/>
          <p:cNvPicPr/>
          <p:nvPr/>
        </p:nvPicPr>
        <p:blipFill>
          <a:blip r:embed="rId1"/>
          <a:stretch/>
        </p:blipFill>
        <p:spPr>
          <a:xfrm>
            <a:off x="3352680" y="1523880"/>
            <a:ext cx="251460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identify the following from the heart rate monitor activity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 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experimented 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NO treatment; NOT experimented 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 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groups (often it is the treatment)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independent variable (is measured or observ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to the independent vari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80880" y="1600200"/>
            <a:ext cx="830592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 Stritch University. (2010)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review bo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stritch.edu/irb.asp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, A. (2010, April 24). Where’d you go with my DNA?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 Times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nytim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/04/25/weekinreview/25harmon.html?_r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: Plan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esig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). Upper Saddle River, NJ: Pears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397160"/>
          <a:ext cx="8534160" cy="5003640"/>
        </p:xfrm>
        <a:graphic>
          <a:graphicData uri="http://schemas.openxmlformats.org/drawingml/2006/table">
            <a:tbl>
              <a:tblPr/>
              <a:tblGrid>
                <a:gridCol w="2819160"/>
                <a:gridCol w="2870280"/>
                <a:gridCol w="2844720"/>
              </a:tblGrid>
              <a:tr h="25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mental  (Treatment) Gro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ipates in an intervention” (p. 226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experimented on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or receives treat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ro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group that receives no intervention”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. 226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experimented on and receives NO treat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TextBox 5"/>
          <p:cNvSpPr/>
          <p:nvPr/>
        </p:nvSpPr>
        <p:spPr>
          <a:xfrm>
            <a:off x="76320" y="647712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066680" y="15228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 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4952880" y="15228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3.bp.blogspot.com/_czh5_XwO1Tg/SLT4JhwyaRI/AAAAAAAAAA8/6jEFLaf1EMo/s320/woman+taking+diet+pill.jpg"/>
          <p:cNvPicPr/>
          <p:nvPr/>
        </p:nvPicPr>
        <p:blipFill>
          <a:blip r:embed="rId1"/>
          <a:stretch/>
        </p:blipFill>
        <p:spPr>
          <a:xfrm>
            <a:off x="838080" y="1447920"/>
            <a:ext cx="3200400" cy="376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3.bp.blogspot.com/_czh5_XwO1Tg/SLT4JhwyaRI/AAAAAAAAAA8/6jEFLaf1EMo/s320/woman+taking+diet+pill.jpg"/>
          <p:cNvPicPr/>
          <p:nvPr/>
        </p:nvPicPr>
        <p:blipFill>
          <a:blip r:embed="rId2"/>
          <a:stretch/>
        </p:blipFill>
        <p:spPr>
          <a:xfrm>
            <a:off x="4724280" y="1447920"/>
            <a:ext cx="3200400" cy="3765600"/>
          </a:xfrm>
          <a:prstGeom prst="rect">
            <a:avLst/>
          </a:prstGeom>
          <a:ln w="0">
            <a:noFill/>
          </a:ln>
        </p:spPr>
      </p:pic>
      <p:sp>
        <p:nvSpPr>
          <p:cNvPr id="68" name="Oval 8"/>
          <p:cNvSpPr/>
          <p:nvPr/>
        </p:nvSpPr>
        <p:spPr>
          <a:xfrm>
            <a:off x="6019920" y="2971800"/>
            <a:ext cx="45720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0"/>
          <p:cNvSpPr/>
          <p:nvPr/>
        </p:nvSpPr>
        <p:spPr>
          <a:xfrm flipV="1">
            <a:off x="6085800" y="3038400"/>
            <a:ext cx="323640" cy="3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0" y="0"/>
            <a:ext cx="4114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ed Silent Reading (S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962520" y="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sptimes.com/2007/05/03/images/large/ASecti_Housep_1584090.jpg"/>
          <p:cNvPicPr/>
          <p:nvPr/>
        </p:nvPicPr>
        <p:blipFill>
          <a:blip r:embed="rId1"/>
          <a:stretch/>
        </p:blipFill>
        <p:spPr>
          <a:xfrm>
            <a:off x="685800" y="1447920"/>
            <a:ext cx="2857680" cy="37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gothamschools.org/wp-content/uploads/2008/08/reading-teacher.jpg"/>
          <p:cNvPicPr/>
          <p:nvPr/>
        </p:nvPicPr>
        <p:blipFill>
          <a:blip r:embed="rId2"/>
          <a:stretch/>
        </p:blipFill>
        <p:spPr>
          <a:xfrm>
            <a:off x="3962520" y="1447920"/>
            <a:ext cx="494640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Text Placeholder 3"/>
          <p:cNvSpPr/>
          <p:nvPr/>
        </p:nvSpPr>
        <p:spPr>
          <a:xfrm>
            <a:off x="0" y="5367240"/>
            <a:ext cx="91440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experiment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1143000"/>
          <a:ext cx="8534520" cy="5454720"/>
        </p:xfrm>
        <a:graphic>
          <a:graphicData uri="http://schemas.openxmlformats.org/drawingml/2006/table">
            <a:tbl>
              <a:tblPr/>
              <a:tblGrid>
                <a:gridCol w="1997280"/>
                <a:gridCol w="3692520"/>
                <a:gridCol w="284472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pendent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 that the researcher studies as a possible cause of something else -- in many cases, it is the one that the researcher directly manipulates” (p. 2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 variable that is different or 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changed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between groups. This is often the treatment or intervention.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endent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variable that is potentially influenced by the independent variable… and so to some extent depends on the independent variable” (p. 2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 variable that is 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measured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or thought to be influenced by the independent variabl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ounding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ys that two or more groups are or might be different in addition to the particular treatment or interventio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hen you have more than one independent variabl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7" name="TextBox 5"/>
          <p:cNvSpPr/>
          <p:nvPr/>
        </p:nvSpPr>
        <p:spPr>
          <a:xfrm>
            <a:off x="76320" y="647712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44193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oups (often it is the treatment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 variable (is measured or obser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he independent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1447920" y="1522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et 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876920" y="2286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3.bp.blogspot.com/_czh5_XwO1Tg/SLT4JhwyaRI/AAAAAAAAAA8/6jEFLaf1EMo/s320/woman+taking+diet+pill.jpg"/>
          <p:cNvPicPr/>
          <p:nvPr/>
        </p:nvPicPr>
        <p:blipFill>
          <a:blip r:embed="rId1"/>
          <a:stretch/>
        </p:blipFill>
        <p:spPr>
          <a:xfrm>
            <a:off x="1523880" y="1523880"/>
            <a:ext cx="233208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3.bp.blogspot.com/_czh5_XwO1Tg/SLT4JhwyaRI/AAAAAAAAAA8/6jEFLaf1EMo/s320/woman+taking+diet+pill.jpg"/>
          <p:cNvPicPr/>
          <p:nvPr/>
        </p:nvPicPr>
        <p:blipFill>
          <a:blip r:embed="rId2"/>
          <a:stretch/>
        </p:blipFill>
        <p:spPr>
          <a:xfrm>
            <a:off x="5075280" y="1550880"/>
            <a:ext cx="2332080" cy="2743200"/>
          </a:xfrm>
          <a:prstGeom prst="rect">
            <a:avLst/>
          </a:prstGeom>
          <a:ln w="0">
            <a:noFill/>
          </a:ln>
        </p:spPr>
      </p:pic>
      <p:sp>
        <p:nvSpPr>
          <p:cNvPr id="83" name="Oval 8"/>
          <p:cNvSpPr/>
          <p:nvPr/>
        </p:nvSpPr>
        <p:spPr>
          <a:xfrm>
            <a:off x="6019920" y="2666880"/>
            <a:ext cx="304560" cy="333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9"/>
          <p:cNvSpPr/>
          <p:nvPr/>
        </p:nvSpPr>
        <p:spPr>
          <a:xfrm flipV="1">
            <a:off x="6095880" y="2716200"/>
            <a:ext cx="184320" cy="262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soc.ucsb.edu/sexinfo/images/05-08-exercise.jpg"/>
          <p:cNvPicPr/>
          <p:nvPr/>
        </p:nvPicPr>
        <p:blipFill>
          <a:blip r:embed="rId3"/>
          <a:stretch/>
        </p:blipFill>
        <p:spPr>
          <a:xfrm>
            <a:off x="152280" y="3048120"/>
            <a:ext cx="1219320" cy="123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3.bp.blogspot.com/_vIyBRfK623E/S_nbVCkz9tI/AAAAAAAAAdU/kTfcasyUkRg/s1600/watching_tv.jpg"/>
          <p:cNvPicPr/>
          <p:nvPr/>
        </p:nvPicPr>
        <p:blipFill>
          <a:blip r:embed="rId4"/>
          <a:stretch/>
        </p:blipFill>
        <p:spPr>
          <a:xfrm>
            <a:off x="7543800" y="3048120"/>
            <a:ext cx="1371600" cy="127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forhealthlylife.com/wp-content/uploads/2010/05/eating-apple.jpg"/>
          <p:cNvPicPr/>
          <p:nvPr/>
        </p:nvPicPr>
        <p:blipFill>
          <a:blip r:embed="rId5"/>
          <a:stretch/>
        </p:blipFill>
        <p:spPr>
          <a:xfrm>
            <a:off x="152280" y="175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www.corbisimages.com/images/572/AA48288E-9FDE-47CF-BE91-47D92E675E68/CB101822.jpg"/>
          <p:cNvPicPr/>
          <p:nvPr/>
        </p:nvPicPr>
        <p:blipFill>
          <a:blip r:embed="rId6"/>
          <a:stretch/>
        </p:blipFill>
        <p:spPr>
          <a:xfrm>
            <a:off x="7696080" y="16002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www.seraphicpress.com/images/Scarlet%20letter.jpg"/>
          <p:cNvPicPr/>
          <p:nvPr/>
        </p:nvPicPr>
        <p:blipFill>
          <a:blip r:embed="rId1"/>
          <a:stretch/>
        </p:blipFill>
        <p:spPr>
          <a:xfrm>
            <a:off x="0" y="1828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1371600" y="1522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581280" y="11916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gothamschools.org/wp-content/uploads/2008/08/reading-teacher.jpg"/>
          <p:cNvPicPr/>
          <p:nvPr/>
        </p:nvPicPr>
        <p:blipFill>
          <a:blip r:embed="rId2"/>
          <a:stretch/>
        </p:blipFill>
        <p:spPr>
          <a:xfrm>
            <a:off x="3886200" y="1371600"/>
            <a:ext cx="368316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sptimes.com/2007/05/03/images/large/ASecti_Housep_1584090.jpg"/>
          <p:cNvPicPr/>
          <p:nvPr/>
        </p:nvPicPr>
        <p:blipFill>
          <a:blip r:embed="rId3"/>
          <a:stretch/>
        </p:blipFill>
        <p:spPr>
          <a:xfrm>
            <a:off x="1600200" y="1447920"/>
            <a:ext cx="2016000" cy="2666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www.scholastic.com/iphoneapps/images/clifford_lg.jpg"/>
          <p:cNvPicPr/>
          <p:nvPr/>
        </p:nvPicPr>
        <p:blipFill>
          <a:blip r:embed="rId4"/>
          <a:stretch/>
        </p:blipFill>
        <p:spPr>
          <a:xfrm>
            <a:off x="7696080" y="2209680"/>
            <a:ext cx="1298520" cy="990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oups (often it is the treatment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 variable (is measured or obser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he independent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Confounding 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1066680"/>
          <a:ext cx="8839440" cy="563904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112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pose: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 maximize internal validity  by ruling out confounding vari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 some things const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test to assess equi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 a control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se participants to all experimental condi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ly assign people to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ly control for confounding vari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3:01:02Z</dcterms:created>
  <dc:creator>Valued Acer Customer</dc:creator>
  <dc:description/>
  <dc:language>en-US</dc:language>
  <cp:lastModifiedBy>Kathy</cp:lastModifiedBy>
  <dcterms:modified xsi:type="dcterms:W3CDTF">2010-12-19T06:35:45Z</dcterms:modified>
  <cp:revision>101</cp:revision>
  <dc:subject/>
  <dc:title>Slide 1</dc:title>
</cp:coreProperties>
</file>